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834-F8B8-4B63-AFF0-A9F8A864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E3A-B8B2-4EF4-ACEE-51478C91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712-B0B8-4C9C-8945-B97E6BD6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885-A2C1-427C-8971-535FDEC2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3F93-8ECE-4AF4-9CB1-21C25748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3497-B08B-4A8E-9C51-B9774DE7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676E-B23C-4599-87E2-853D12EF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FEF2-6DE3-4E07-B823-E00F0CF1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E9AB-1349-4CE1-A7DD-EDD321C5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0464-A089-49CF-9055-71BD0C91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9222-6176-405A-AF7C-F6B56F2E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977-9065-46AE-8F17-B1E26902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CCC7-080A-4454-9C1A-A9068608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390D-2DB2-4C11-9C63-327B309E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EBD9-F27D-442F-B23D-82621DC4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615D-CFD7-4327-856E-0CB8FD52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4011-A42E-44D8-953C-819EBD6D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728-4055-4F8E-AD7E-04DEB1B4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723-089C-48EB-92B0-A28B8EFF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315-A0A7-4D84-A423-F4398C27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2D4-997B-4414-9EA6-61215D56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5F4-B5F1-404D-AFFC-CE28730C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99F-8F29-4861-A7D5-EFA6AC23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7AC-1B2C-4B09-B016-6B83F091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F572-E817-4F85-AB37-B868D01DF6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9AC8-C64C-4CDA-AA01-2D081E4741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ostcardsfrom.com/t1/980623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0880" y="304920"/>
            <a:ext cx="8534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isconsi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49528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5105520"/>
            <a:ext cx="2438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aron Hod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24080" y="609480"/>
            <a:ext cx="33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On Wisconsin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 10/7/10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WWW.50 states. com/Wiscon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All images Copyright © 1997 - 2000 WriteLine. All Rights Reserved. Wisconsin Dells and Wisonsin River"/>
          <p:cNvPicPr/>
          <p:nvPr/>
        </p:nvPicPr>
        <p:blipFill>
          <a:blip r:embed="rId1"/>
          <a:stretch/>
        </p:blipFill>
        <p:spPr>
          <a:xfrm>
            <a:off x="1066680" y="-152280"/>
            <a:ext cx="7467840" cy="5867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09680" y="5715000"/>
            <a:ext cx="44197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stcards from America,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Wisconsin Dells, WI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ptember/23/2010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http://www.postcardsfrom.com/t1/980623.html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Wsconsin: Map and State Flag"/>
          <p:cNvPicPr/>
          <p:nvPr/>
        </p:nvPicPr>
        <p:blipFill>
          <a:blip r:embed="rId1"/>
          <a:srcRect l="-2689" t="-1591" r="0" b="66141"/>
          <a:stretch/>
        </p:blipFill>
        <p:spPr>
          <a:xfrm>
            <a:off x="685800" y="465120"/>
            <a:ext cx="3429000" cy="1984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Wsconsin: Map and State Flag"/>
          <p:cNvPicPr/>
          <p:nvPr/>
        </p:nvPicPr>
        <p:blipFill>
          <a:blip r:embed="rId2"/>
          <a:srcRect l="-2689" t="35493" r="0" b="0"/>
          <a:stretch/>
        </p:blipFill>
        <p:spPr>
          <a:xfrm>
            <a:off x="3505320" y="2743200"/>
            <a:ext cx="2895480" cy="3048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43000" y="5334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 Wisconsin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14/10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ttp://bensguide.gpo.gov/50stat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60199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57150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62120" y="2590920"/>
            <a:ext cx="227160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1904760" cy="1976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238880" y="3200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p 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7150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name: Wiscon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tal: Mad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tion: 5,536,2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on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to Forw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kname: badger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wer:  wood vio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rd Rob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ng On Wiscon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esting facts 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91320" y="44956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38Z</dcterms:created>
  <dc:creator>install</dc:creator>
  <dc:description/>
  <dc:language>en-US</dc:language>
  <cp:lastModifiedBy>install</cp:lastModifiedBy>
  <dcterms:modified xsi:type="dcterms:W3CDTF">2010-10-14T13:19:20Z</dcterms:modified>
  <cp:revision>15</cp:revision>
  <dc:subject/>
  <dc:title>Slide 1</dc:title>
</cp:coreProperties>
</file>